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34E4-D215-48EB-AA7D-3DB23BC39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81C6-79F0-4C07-A9BE-1BF1AFE3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8C6C-825E-4DFC-AFE5-7B0912B70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E839-B956-4608-AA6B-8CA744A6B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95A7-101B-48E2-A161-6886B16A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98B1-136D-4266-9B33-BAD99842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0C1D-37B9-44BC-B50B-C637070A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53F4-AAA9-42B3-8EA6-59D44478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1B1F-E37C-47FA-9383-D39D4E2E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8988-158A-4FFA-A560-B493C20E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3FC3-A98E-4A77-9389-59351E8E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995A-FFEF-4983-8B29-FD9039D9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53EE-86D2-49D2-B3B4-E6444AA415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2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6421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250920" y="400536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إيحاء الله إلى رجل من البشر أمر موافق للحكمة لا محل استغراب وتعج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3"/>
          <a:stretch/>
        </p:blipFill>
        <p:spPr>
          <a:xfrm>
            <a:off x="2556000" y="981000"/>
            <a:ext cx="6386400" cy="660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4"/>
          <a:stretch/>
        </p:blipFill>
        <p:spPr>
          <a:xfrm>
            <a:off x="968400" y="3141720"/>
            <a:ext cx="7948440" cy="639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5"/>
          <a:stretch/>
        </p:blipFill>
        <p:spPr>
          <a:xfrm>
            <a:off x="1547640" y="1700280"/>
            <a:ext cx="72723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1360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2952720" y="5229360"/>
            <a:ext cx="3238560" cy="596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3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844640"/>
            <a:ext cx="86648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له أعلم بمراده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2062080" y="981000"/>
            <a:ext cx="67010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7138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2" descr=""/>
          <p:cNvPicPr/>
          <p:nvPr/>
        </p:nvPicPr>
        <p:blipFill>
          <a:blip r:embed="rId1"/>
          <a:stretch/>
        </p:blipFill>
        <p:spPr>
          <a:xfrm>
            <a:off x="243000" y="1989000"/>
            <a:ext cx="8650080" cy="4608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50920" y="335772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آ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43000" y="42210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رسلن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43000" y="5006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البش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0920" y="57276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إن الرسول دج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11" descr=""/>
          <p:cNvPicPr/>
          <p:nvPr/>
        </p:nvPicPr>
        <p:blipFill>
          <a:blip r:embed="rId4"/>
          <a:stretch/>
        </p:blipFill>
        <p:spPr>
          <a:xfrm>
            <a:off x="-15840" y="866880"/>
            <a:ext cx="9159840" cy="906480"/>
          </a:xfrm>
          <a:prstGeom prst="rect">
            <a:avLst/>
          </a:prstGeom>
          <a:ln w="0">
            <a:noFill/>
          </a:ln>
        </p:spPr>
      </p:pic>
      <p:sp>
        <p:nvSpPr>
          <p:cNvPr id="62" name="عنوان 1"/>
          <p:cNvSpPr/>
          <p:nvPr/>
        </p:nvSpPr>
        <p:spPr>
          <a:xfrm>
            <a:off x="3059280" y="1047600"/>
            <a:ext cx="4176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ان صدق القرآن الكري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sp>
        <p:nvSpPr>
          <p:cNvPr id="6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14842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قرآن الكريم كتاب محكم واضح مبين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يما اشتمل عليه من حلال وحرام وحدود وأحك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206064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يحاء الله إلى رجل من البشر أم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وافق للحكمة لا محل استغراب وتع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بوة محمد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ثابت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79280" y="335772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شرى أهل الإيمان والعمل الصالح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ما أعد الله لهم من النعي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40766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شدة تعجب العرب من بلاغة وفصاح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قرآن العظي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79280" y="479736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صف المشركون القرآن الكريم بأن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سح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5" descr=""/>
          <p:cNvPicPr/>
          <p:nvPr/>
        </p:nvPicPr>
        <p:blipFill>
          <a:blip r:embed="rId3"/>
          <a:stretch/>
        </p:blipFill>
        <p:spPr>
          <a:xfrm>
            <a:off x="250920" y="1197000"/>
            <a:ext cx="8642160" cy="424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4"/>
          <a:stretch/>
        </p:blipFill>
        <p:spPr>
          <a:xfrm>
            <a:off x="8172360" y="3517920"/>
            <a:ext cx="533520" cy="558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5"/>
          <a:stretch/>
        </p:blipFill>
        <p:spPr>
          <a:xfrm>
            <a:off x="8172360" y="4454640"/>
            <a:ext cx="533520" cy="558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6"/>
          <a:stretch/>
        </p:blipFill>
        <p:spPr>
          <a:xfrm>
            <a:off x="2195640" y="2421000"/>
            <a:ext cx="533160" cy="558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7"/>
          <a:stretch/>
        </p:blipFill>
        <p:spPr>
          <a:xfrm>
            <a:off x="2166840" y="4508640"/>
            <a:ext cx="53352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6T05:29:29Z</dcterms:modified>
  <cp:revision>1888</cp:revision>
  <dc:subject/>
  <dc:title>عرض تقديمي في PowerPoint</dc:title>
</cp:coreProperties>
</file>